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65A272-4D40-40FE-9BA2-09554DB0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wnload latest updated HCS12 Project Stationary from WWW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tract stationary and open project fil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in Project Stationary Window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fining the 3 steps to setting up a project for a specific part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1 for selecting part and mask s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2 for selecting appropriate peripheral file to include per part/masks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ep 3 for selecting matching parameter file per part and build targe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 source code showing how to begin your applicatio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 showing how to properly insert an interrupt service routine using the project stationary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wnload, Extract, Op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8568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3304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3832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38568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13304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52680" y="1523520"/>
            <a:ext cx="5105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38568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3040" y="364644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832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38568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33040" y="4164120"/>
            <a:ext cx="71136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52680" y="1523520"/>
            <a:ext cx="5105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70880" y="416412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3832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70880" y="3646440"/>
            <a:ext cx="1078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8320" y="4164120"/>
            <a:ext cx="22100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0958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 02/26/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S2002FAE Training—April 8-12,  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TOROLA and the Stylized M Logo are registered in the US Patent &amp; Trademark Office. All other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 or service names are the property of their respective owners.  © Motorola, Inc. 2001.  </a:t>
            </a: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081160" y="2103480"/>
            <a:ext cx="3748320" cy="201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673200" y="3341520"/>
            <a:ext cx="4368600" cy="237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186000" y="1371600"/>
            <a:ext cx="5780160" cy="14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2/26/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orola FAE Training—April 10, 2002</a:t>
            </a: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TOROLA and the Stylized M Logo are registered in the US Patent &amp; Trademark Office. All other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 or service names are the property of their respective owners.  © Motorola, Inc. 2001.  </a:t>
            </a: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1523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S12 Project Stationary for Metrowerks Code Warrior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wwshot" descr=""/>
          <p:cNvPicPr/>
          <p:nvPr/>
        </p:nvPicPr>
        <p:blipFill>
          <a:blip r:embed="rId2"/>
          <a:stretch/>
        </p:blipFill>
        <p:spPr>
          <a:xfrm>
            <a:off x="380880" y="627120"/>
            <a:ext cx="8382240" cy="433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52760" y="5265720"/>
            <a:ext cx="5891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257800"/>
            <a:ext cx="6705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266840" y="5181480"/>
            <a:ext cx="6446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http://compass.mot.com/go/hcs12station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95280" y="3886200"/>
            <a:ext cx="3812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89680" y="4446720"/>
            <a:ext cx="1732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to downloa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zipextract2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6513480" cy="505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2057400" y="32767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441972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882360" y="3505320"/>
            <a:ext cx="1041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248200" y="4648320"/>
            <a:ext cx="834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952880" y="4114440"/>
            <a:ext cx="4572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462640" y="4141800"/>
            <a:ext cx="17762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-click to open Project window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winzipextract3" descr=""/>
          <p:cNvPicPr/>
          <p:nvPr/>
        </p:nvPicPr>
        <p:blipFill>
          <a:blip r:embed="rId3"/>
          <a:stretch/>
        </p:blipFill>
        <p:spPr>
          <a:xfrm>
            <a:off x="6629400" y="914400"/>
            <a:ext cx="685800" cy="657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555520" y="533520"/>
            <a:ext cx="197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wnloaded Zip Fil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24280" y="609480"/>
            <a:ext cx="4038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project stationary window displaying all necessary global, source, peripheral, parameter, and definition files to develop your applic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 a file into the compilation, click unde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bulls eye colum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t to the desired file (included file is marked by a bullet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rojectwindow2" descr=""/>
          <p:cNvPicPr/>
          <p:nvPr/>
        </p:nvPicPr>
        <p:blipFill>
          <a:blip r:embed="rId2"/>
          <a:stretch/>
        </p:blipFill>
        <p:spPr>
          <a:xfrm>
            <a:off x="808200" y="152280"/>
            <a:ext cx="3349440" cy="5639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3657600" y="38088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4646160" y="255600"/>
            <a:ext cx="206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elect a pa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open projectglobals.h (within the Globals folder in the main project window) and uncomment only the desired part for your application under the Mask Set selection box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select the peripheral file (within the Peripherals folder in the main project window) respective to the desired part for your application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, select the parameter file (within the Prm folder in the main project window) respective to the desired part for your application and the selected build target (Ram,Flash,Banked_Flash)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Step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asksetselection" descr=""/>
          <p:cNvPicPr/>
          <p:nvPr/>
        </p:nvPicPr>
        <p:blipFill>
          <a:blip r:embed="rId2"/>
          <a:stretch/>
        </p:blipFill>
        <p:spPr>
          <a:xfrm>
            <a:off x="304920" y="3186000"/>
            <a:ext cx="8458200" cy="2300400"/>
          </a:xfrm>
          <a:prstGeom prst="rect">
            <a:avLst/>
          </a:prstGeom>
          <a:ln w="0">
            <a:noFill/>
          </a:ln>
        </p:spPr>
      </p:pic>
      <p:pic>
        <p:nvPicPr>
          <p:cNvPr id="146" name="projectglobals" descr=""/>
          <p:cNvPicPr/>
          <p:nvPr/>
        </p:nvPicPr>
        <p:blipFill>
          <a:blip r:embed="rId3"/>
          <a:stretch/>
        </p:blipFill>
        <p:spPr>
          <a:xfrm>
            <a:off x="3790800" y="533520"/>
            <a:ext cx="4819680" cy="200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619200"/>
            <a:ext cx="3200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 and Mask S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76720" y="2133360"/>
            <a:ext cx="99036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0574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-click to open projectglobals.h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886200"/>
            <a:ext cx="381240" cy="152388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405240" y="4522680"/>
            <a:ext cx="4900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ithin projectglobals.h, uncomment the part and mask set for your application by removing “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 Black"/>
              </a:rPr>
              <a:t>//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” before #define statemen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6192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’s respective Peripheral Fi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609480"/>
            <a:ext cx="2438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under the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next to the desired file (included file is marked by a bullet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eripherals" descr=""/>
          <p:cNvPicPr/>
          <p:nvPr/>
        </p:nvPicPr>
        <p:blipFill>
          <a:blip r:embed="rId2"/>
          <a:srcRect l="4741" t="0" r="0" b="0"/>
          <a:stretch/>
        </p:blipFill>
        <p:spPr>
          <a:xfrm>
            <a:off x="1754280" y="2757600"/>
            <a:ext cx="5103720" cy="1865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6248520" y="1981080"/>
            <a:ext cx="30456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5056200"/>
            <a:ext cx="7997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above includes per_DP256_1K79X.c file indicated by the bull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6192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nclude a Part’s respective Parameter Fi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070000"/>
            <a:ext cx="297180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ick under the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d bulls eye column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next to the desired file (included file is marked by a bullet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85720" y="5448240"/>
            <a:ext cx="7997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above includes _MC9S12DP256.prm file indicated by the bull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parameter" descr=""/>
          <p:cNvPicPr/>
          <p:nvPr/>
        </p:nvPicPr>
        <p:blipFill>
          <a:blip r:embed="rId2"/>
          <a:stretch/>
        </p:blipFill>
        <p:spPr>
          <a:xfrm>
            <a:off x="4419720" y="324000"/>
            <a:ext cx="4135320" cy="4933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3379680"/>
            <a:ext cx="373392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nly select a *.prm file matching the build targ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AM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am Applic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LAT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Flash Applic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NKED.pr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Banked_Flash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9907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6907320" y="838080"/>
            <a:ext cx="1825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lect Build Target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76720" y="2438280"/>
            <a:ext cx="4572000" cy="609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begin your applic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main" descr=""/>
          <p:cNvPicPr/>
          <p:nvPr/>
        </p:nvPicPr>
        <p:blipFill>
          <a:blip r:embed="rId2"/>
          <a:stretch/>
        </p:blipFill>
        <p:spPr>
          <a:xfrm>
            <a:off x="3409920" y="1924200"/>
            <a:ext cx="5124600" cy="3782880"/>
          </a:xfrm>
          <a:prstGeom prst="rect">
            <a:avLst/>
          </a:prstGeom>
          <a:ln w="0">
            <a:noFill/>
          </a:ln>
        </p:spPr>
      </p:pic>
      <p:pic>
        <p:nvPicPr>
          <p:cNvPr id="167" name="main2" descr=""/>
          <p:cNvPicPr/>
          <p:nvPr/>
        </p:nvPicPr>
        <p:blipFill>
          <a:blip r:embed="rId3"/>
          <a:srcRect l="2449" t="0" r="0" b="0"/>
          <a:stretch/>
        </p:blipFill>
        <p:spPr>
          <a:xfrm>
            <a:off x="228600" y="1295280"/>
            <a:ext cx="4832280" cy="555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2438280"/>
            <a:ext cx="22860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en blank main.c (within Sources folder in the main project window) and enter your source code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04560" y="167580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920" y="1600200"/>
            <a:ext cx="3038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09680" y="41144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948960" y="4686480"/>
            <a:ext cx="2067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 source cod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mplement interrupt vecto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rojectvectors2" descr=""/>
          <p:cNvPicPr/>
          <p:nvPr/>
        </p:nvPicPr>
        <p:blipFill>
          <a:blip r:embed="rId2"/>
          <a:stretch/>
        </p:blipFill>
        <p:spPr>
          <a:xfrm>
            <a:off x="609480" y="1515960"/>
            <a:ext cx="4381560" cy="69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91240" y="1438200"/>
            <a:ext cx="2538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en projectvectors.c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361960" y="1600200"/>
            <a:ext cx="32763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666880"/>
            <a:ext cx="8001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open projectvectors.c (within the Globals folder in the main project window) and enter your Interrupt Service Routine Function within the appropriate interrupt routine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projectvectors.c you will find predefined interrupt vectors for all supported parts.  Just add your interrupt service routine as a function (ex. Dummy_handler ();) within the appropriate interrupt routin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rojectvectors" descr=""/>
          <p:cNvPicPr/>
          <p:nvPr/>
        </p:nvPicPr>
        <p:blipFill>
          <a:blip r:embed="rId2"/>
          <a:srcRect l="0" t="0" r="36591" b="0"/>
          <a:stretch/>
        </p:blipFill>
        <p:spPr>
          <a:xfrm>
            <a:off x="4275000" y="990720"/>
            <a:ext cx="4183200" cy="4333680"/>
          </a:xfrm>
          <a:prstGeom prst="rect">
            <a:avLst/>
          </a:prstGeom>
          <a:ln w="0">
            <a:noFill/>
          </a:ln>
        </p:spPr>
      </p:pic>
      <p:pic>
        <p:nvPicPr>
          <p:cNvPr id="180" name="vectorfunctions2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343872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3048120" y="2819160"/>
            <a:ext cx="17524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038480"/>
            <a:ext cx="1752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42240" y="838080"/>
            <a:ext cx="30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ert interrupt service fun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ide Interrupt Service Routine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978120" y="5410080"/>
            <a:ext cx="7244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te: Only the ISR within projectvectors.c starts with the “interrupt” typedef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ary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software development environment to tackle market-demand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rchitecture that focuses on both the customer and internal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 growing number of HCS12 microcontrollers by including all necessar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assist with New Product Introduction (N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52680" y="1523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3384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638320" y="364644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onary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part name and mask set to keep track of product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files only include modules pertaining to part name in order to support System on Chip (SoC) ide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structure definition files follow strict naming convention to coincide with docum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Hierarc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219320"/>
            <a:ext cx="2209680" cy="1096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lication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2666880"/>
            <a:ext cx="2011320" cy="109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lobal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837400" y="3962520"/>
            <a:ext cx="2011320" cy="109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930480"/>
            <a:ext cx="2011320" cy="109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ripheral Fi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60480" y="4648320"/>
            <a:ext cx="2011320" cy="109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34120" y="2286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365760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5480" y="4723920"/>
            <a:ext cx="3812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943600" y="3581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50532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386000" y="1523880"/>
            <a:ext cx="2050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rrow dire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presents includ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2011320" cy="1096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ecto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00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6401160" y="3581280"/>
            <a:ext cx="88956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Structure defs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86400" y="495288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95120" y="54100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23760" rIns="2376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1319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Included through Project Globals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rchitecture #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 – source code controlling external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lobals – source code interfacing application software with respective module drivers and peripheral / structure definitions, depending on part / mask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ectors – predefined dummy interrupt vector handl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rchitecture #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– source code routines to initialize and build application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Files – source code identifying peripheral modules included in specific Part / Mask set.  Also, defines register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Definitions – source code defining register structures down to the bit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ed Par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1752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K79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K78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5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6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920" y="152388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, Flash, and Banked_Flash Target Applications are supported per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371600"/>
            <a:ext cx="1752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51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00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2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85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2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08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L45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S12 Project Stationary for Metrowerks Code Warr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 User’s Guide ~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open the stationar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latest HCS12_Stationary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compass.mot.com/go/hcs12station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stationary into any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ary will form structured directory labeled S12_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_MC9S12.mcp project file to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located within S12_Projects\_MC9S12\ direc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1:44:20Z</dcterms:created>
  <dc:creator>maurie</dc:creator>
  <dc:description/>
  <dc:language>en-US</dc:language>
  <cp:lastModifiedBy>Eduardo Montanez</cp:lastModifiedBy>
  <cp:lastPrinted>2001-05-10T18:28:01Z</cp:lastPrinted>
  <dcterms:modified xsi:type="dcterms:W3CDTF">2002-09-26T18:40:06Z</dcterms:modified>
  <cp:revision>42</cp:revision>
  <dc:subject/>
  <dc:title>Titleand </dc:title>
</cp:coreProperties>
</file>